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C0C9-5F6B-4819-8927-997DE1A3F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B0C6-32B2-4291-88BF-74E0C59B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FD02-74AC-4661-9E64-0DF60488A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2B09-6012-43E2-B1DF-198421A31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CBA9-B217-4554-A961-1FFAD6A4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D319-10FD-4D92-AF6F-7FAF934E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6D5D-96F7-4F50-8602-46248816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0188-8B34-4CD9-8390-7166A2C6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AD73-97D5-4012-B32B-B9C06168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1431-6612-45C9-A680-28C0A3C2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88B5-A2B2-47FE-BA47-D928D834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14EE-2F03-49DF-9D77-AD4BEB2C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388394-9387-4F41-AB3D-EB3A4A314C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D23ED1-78D6-4C7C-BC09-EB4E797A90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 Same Side Corner Rectangle 4"/>
          <p:cNvSpPr/>
          <p:nvPr/>
        </p:nvSpPr>
        <p:spPr>
          <a:xfrm rot="10800000">
            <a:off x="3440160" y="2664000"/>
            <a:ext cx="558720" cy="90792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 Same Side Corner Rectangle 5"/>
          <p:cNvSpPr/>
          <p:nvPr/>
        </p:nvSpPr>
        <p:spPr>
          <a:xfrm rot="10800000">
            <a:off x="8292600" y="2801880"/>
            <a:ext cx="559080" cy="91440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eft Bracket 18"/>
          <p:cNvSpPr/>
          <p:nvPr/>
        </p:nvSpPr>
        <p:spPr>
          <a:xfrm rot="16200000">
            <a:off x="8466840" y="4009320"/>
            <a:ext cx="193680" cy="712800"/>
          </a:xfrm>
          <a:custGeom>
            <a:avLst/>
            <a:gdLst>
              <a:gd name="textAreaLeft" fmla="*/ 56880 w 193680"/>
              <a:gd name="textAreaRight" fmla="*/ 194040 w 193680"/>
              <a:gd name="textAreaTop" fmla="*/ 7920 h 712800"/>
              <a:gd name="textAreaBottom" fmla="*/ 704880 h 71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45"/>
                  <a:pt x="0" y="489"/>
                </a:cubicBezTo>
                <a:lnTo>
                  <a:pt x="0" y="21111"/>
                </a:lnTo>
                <a:cubicBezTo>
                  <a:pt x="0" y="21356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1"/>
          <p:cNvSpPr/>
          <p:nvPr/>
        </p:nvSpPr>
        <p:spPr>
          <a:xfrm>
            <a:off x="406440" y="2801880"/>
            <a:ext cx="30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ust grown in liquid culture with no Ampici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3"/>
          <p:cNvSpPr/>
          <p:nvPr/>
        </p:nvSpPr>
        <p:spPr>
          <a:xfrm>
            <a:off x="4705200" y="2813040"/>
            <a:ext cx="30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C 19 bugs 2XYT in tube and p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6"/>
          <p:cNvSpPr/>
          <p:nvPr/>
        </p:nvSpPr>
        <p:spPr>
          <a:xfrm>
            <a:off x="4781520" y="1644480"/>
            <a:ext cx="42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eriment 2:Already transformed  pUC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ircular Arrow 34"/>
          <p:cNvSpPr/>
          <p:nvPr/>
        </p:nvSpPr>
        <p:spPr>
          <a:xfrm>
            <a:off x="7947000" y="2468520"/>
            <a:ext cx="652320" cy="66672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ircular Arrow 35"/>
          <p:cNvSpPr/>
          <p:nvPr/>
        </p:nvSpPr>
        <p:spPr>
          <a:xfrm>
            <a:off x="3135240" y="2344680"/>
            <a:ext cx="652680" cy="66852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6"/>
          <p:cNvSpPr/>
          <p:nvPr/>
        </p:nvSpPr>
        <p:spPr>
          <a:xfrm>
            <a:off x="96840" y="4500720"/>
            <a:ext cx="431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son: Control for input viability( + contr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7"/>
          <p:cNvSpPr/>
          <p:nvPr/>
        </p:nvSpPr>
        <p:spPr>
          <a:xfrm>
            <a:off x="564840" y="164448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eriment 1:Top 10 no 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Straight Arrow Connector 40"/>
          <p:cNvCxnSpPr/>
          <p:nvPr/>
        </p:nvCxnSpPr>
        <p:spPr>
          <a:xfrm flipH="1">
            <a:off x="8597520" y="3805200"/>
            <a:ext cx="2160" cy="4644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2" name="TextBox 51"/>
          <p:cNvSpPr/>
          <p:nvPr/>
        </p:nvSpPr>
        <p:spPr>
          <a:xfrm>
            <a:off x="4762440" y="4500720"/>
            <a:ext cx="41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son: To check if plates are ok(+ contr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168560" y="92160"/>
            <a:ext cx="642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cting Possible Errors in Bacterial Transformation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8"/>
          <p:cNvSpPr/>
          <p:nvPr/>
        </p:nvSpPr>
        <p:spPr>
          <a:xfrm>
            <a:off x="4500720" y="1401840"/>
            <a:ext cx="29880" cy="45511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ound Same Side Corner Rectangle 3"/>
          <p:cNvSpPr/>
          <p:nvPr/>
        </p:nvSpPr>
        <p:spPr>
          <a:xfrm rot="10800000">
            <a:off x="3684600" y="2336760"/>
            <a:ext cx="558720" cy="90648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4"/>
          <p:cNvSpPr/>
          <p:nvPr/>
        </p:nvSpPr>
        <p:spPr>
          <a:xfrm>
            <a:off x="1054080" y="2336760"/>
            <a:ext cx="238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ready transformed  pBR322 bugs 2XYT in tube and pl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7"/>
          <p:cNvSpPr/>
          <p:nvPr/>
        </p:nvSpPr>
        <p:spPr>
          <a:xfrm>
            <a:off x="432720" y="1273320"/>
            <a:ext cx="229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eriment 3: pBR3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eft Bracket 6"/>
          <p:cNvSpPr/>
          <p:nvPr/>
        </p:nvSpPr>
        <p:spPr>
          <a:xfrm rot="16200000">
            <a:off x="3805200" y="3406680"/>
            <a:ext cx="187200" cy="914400"/>
          </a:xfrm>
          <a:custGeom>
            <a:avLst/>
            <a:gdLst>
              <a:gd name="textAreaLeft" fmla="*/ 55080 w 187200"/>
              <a:gd name="textAreaRight" fmla="*/ 187560 w 187200"/>
              <a:gd name="textAreaTop" fmla="*/ 7560 h 914400"/>
              <a:gd name="textAreaBottom" fmla="*/ 9068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85"/>
                  <a:pt x="0" y="369"/>
                </a:cubicBezTo>
                <a:lnTo>
                  <a:pt x="0" y="21231"/>
                </a:lnTo>
                <a:cubicBezTo>
                  <a:pt x="0" y="21416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ircular Arrow 7"/>
          <p:cNvSpPr/>
          <p:nvPr/>
        </p:nvSpPr>
        <p:spPr>
          <a:xfrm>
            <a:off x="3359160" y="2001960"/>
            <a:ext cx="652320" cy="66816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Straight Arrow Connector 8"/>
          <p:cNvCxnSpPr/>
          <p:nvPr/>
        </p:nvCxnSpPr>
        <p:spPr>
          <a:xfrm>
            <a:off x="4008960" y="3259080"/>
            <a:ext cx="108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1" name="TextBox 53"/>
          <p:cNvSpPr/>
          <p:nvPr/>
        </p:nvSpPr>
        <p:spPr>
          <a:xfrm>
            <a:off x="586800" y="3957480"/>
            <a:ext cx="41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son: To check if plates are ok (+contr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 Same Side Corner Rectangle 10"/>
          <p:cNvSpPr/>
          <p:nvPr/>
        </p:nvSpPr>
        <p:spPr>
          <a:xfrm rot="10800000">
            <a:off x="7812000" y="2141640"/>
            <a:ext cx="558720" cy="90792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8"/>
          <p:cNvSpPr/>
          <p:nvPr/>
        </p:nvSpPr>
        <p:spPr>
          <a:xfrm>
            <a:off x="5095440" y="1271520"/>
            <a:ext cx="29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eriment 4: SOC ( - contr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1"/>
          <p:cNvSpPr/>
          <p:nvPr/>
        </p:nvSpPr>
        <p:spPr>
          <a:xfrm>
            <a:off x="4927680" y="2335320"/>
            <a:ext cx="277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5uL of soc +amp+2XYT p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eft Bracket 13"/>
          <p:cNvSpPr/>
          <p:nvPr/>
        </p:nvSpPr>
        <p:spPr>
          <a:xfrm rot="16200000">
            <a:off x="8043840" y="3405240"/>
            <a:ext cx="187200" cy="914400"/>
          </a:xfrm>
          <a:custGeom>
            <a:avLst/>
            <a:gdLst>
              <a:gd name="textAreaLeft" fmla="*/ 55080 w 187200"/>
              <a:gd name="textAreaRight" fmla="*/ 187560 w 187200"/>
              <a:gd name="textAreaTop" fmla="*/ 7560 h 914400"/>
              <a:gd name="textAreaBottom" fmla="*/ 9068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85"/>
                  <a:pt x="0" y="369"/>
                </a:cubicBezTo>
                <a:lnTo>
                  <a:pt x="0" y="21231"/>
                </a:lnTo>
                <a:cubicBezTo>
                  <a:pt x="0" y="21416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ircular Arrow 14"/>
          <p:cNvSpPr/>
          <p:nvPr/>
        </p:nvSpPr>
        <p:spPr>
          <a:xfrm>
            <a:off x="7485120" y="1808280"/>
            <a:ext cx="652320" cy="66672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6"/>
          <p:cNvSpPr/>
          <p:nvPr/>
        </p:nvSpPr>
        <p:spPr>
          <a:xfrm>
            <a:off x="5067000" y="40863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son: To check for conta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16"/>
          <p:cNvCxnSpPr/>
          <p:nvPr/>
        </p:nvCxnSpPr>
        <p:spPr>
          <a:xfrm flipH="1">
            <a:off x="8089560" y="3241800"/>
            <a:ext cx="2160" cy="5292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9" name="Straight Connector 18"/>
          <p:cNvSpPr/>
          <p:nvPr/>
        </p:nvSpPr>
        <p:spPr>
          <a:xfrm>
            <a:off x="4753080" y="568440"/>
            <a:ext cx="0" cy="52131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ound Same Side Corner Rectangle 3"/>
          <p:cNvSpPr/>
          <p:nvPr/>
        </p:nvSpPr>
        <p:spPr>
          <a:xfrm rot="10800000">
            <a:off x="3287880" y="1044720"/>
            <a:ext cx="558720" cy="90648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397800" y="1031760"/>
            <a:ext cx="163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eriment 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DNA + bu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 - contr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 Same Side Corner Rectangle 5"/>
          <p:cNvSpPr/>
          <p:nvPr/>
        </p:nvSpPr>
        <p:spPr>
          <a:xfrm rot="10800000">
            <a:off x="7172280" y="1752480"/>
            <a:ext cx="558720" cy="90648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5130000" y="674640"/>
            <a:ext cx="36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eriment 6: pUC19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84120" y="2782800"/>
            <a:ext cx="40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son: testing if the TOP10 bugs have been contamin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9"/>
          <p:cNvSpPr/>
          <p:nvPr/>
        </p:nvSpPr>
        <p:spPr>
          <a:xfrm>
            <a:off x="4862160" y="2890800"/>
            <a:ext cx="44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s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check pUC19 in the Invitogen ki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ing Invitrogen recommendation,protoc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ircular Arrow 10"/>
          <p:cNvSpPr/>
          <p:nvPr/>
        </p:nvSpPr>
        <p:spPr>
          <a:xfrm>
            <a:off x="2859120" y="733320"/>
            <a:ext cx="652320" cy="66672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12"/>
          <p:cNvCxnSpPr/>
          <p:nvPr/>
        </p:nvCxnSpPr>
        <p:spPr>
          <a:xfrm flipH="1">
            <a:off x="3509640" y="2112480"/>
            <a:ext cx="2160" cy="2120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8" name="Left Bracket 14"/>
          <p:cNvSpPr/>
          <p:nvPr/>
        </p:nvSpPr>
        <p:spPr>
          <a:xfrm rot="16200000">
            <a:off x="3419280" y="1864800"/>
            <a:ext cx="187560" cy="914400"/>
          </a:xfrm>
          <a:custGeom>
            <a:avLst/>
            <a:gdLst>
              <a:gd name="textAreaLeft" fmla="*/ 55080 w 187560"/>
              <a:gd name="textAreaRight" fmla="*/ 187920 w 187560"/>
              <a:gd name="textAreaTop" fmla="*/ 7560 h 914400"/>
              <a:gd name="textAreaBottom" fmla="*/ 9068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85"/>
                  <a:pt x="0" y="369"/>
                </a:cubicBezTo>
                <a:lnTo>
                  <a:pt x="0" y="21231"/>
                </a:lnTo>
                <a:cubicBezTo>
                  <a:pt x="0" y="21416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2"/>
          <p:cNvSpPr/>
          <p:nvPr/>
        </p:nvSpPr>
        <p:spPr>
          <a:xfrm flipH="1">
            <a:off x="4682880" y="223920"/>
            <a:ext cx="20520" cy="50385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eft Bracket 15"/>
          <p:cNvSpPr/>
          <p:nvPr/>
        </p:nvSpPr>
        <p:spPr>
          <a:xfrm rot="16200000">
            <a:off x="7322760" y="2507760"/>
            <a:ext cx="187560" cy="914400"/>
          </a:xfrm>
          <a:custGeom>
            <a:avLst/>
            <a:gdLst>
              <a:gd name="textAreaLeft" fmla="*/ 55080 w 187560"/>
              <a:gd name="textAreaRight" fmla="*/ 187920 w 187560"/>
              <a:gd name="textAreaTop" fmla="*/ 7560 h 914400"/>
              <a:gd name="textAreaBottom" fmla="*/ 9068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85"/>
                  <a:pt x="0" y="369"/>
                </a:cubicBezTo>
                <a:lnTo>
                  <a:pt x="0" y="21231"/>
                </a:lnTo>
                <a:cubicBezTo>
                  <a:pt x="0" y="21416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Straight Arrow Connector 16"/>
          <p:cNvCxnSpPr/>
          <p:nvPr/>
        </p:nvCxnSpPr>
        <p:spPr>
          <a:xfrm flipH="1">
            <a:off x="7468920" y="2661840"/>
            <a:ext cx="2160" cy="2120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82" name="Circular Arrow 17"/>
          <p:cNvSpPr/>
          <p:nvPr/>
        </p:nvSpPr>
        <p:spPr>
          <a:xfrm rot="3585600">
            <a:off x="6979680" y="1075320"/>
            <a:ext cx="652680" cy="66672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1812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57200" y="1116000"/>
          <a:ext cx="8120160" cy="6583320"/>
        </p:xfrm>
        <a:graphic>
          <a:graphicData uri="http://schemas.openxmlformats.org/drawingml/2006/table">
            <a:tbl>
              <a:tblPr/>
              <a:tblGrid>
                <a:gridCol w="1001880"/>
                <a:gridCol w="653760"/>
                <a:gridCol w="849600"/>
                <a:gridCol w="950760"/>
                <a:gridCol w="1554120"/>
                <a:gridCol w="1555920"/>
                <a:gridCol w="15541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rol 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eat Sh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as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edicted growth yes/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served growth yes/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uL S.O.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check for contamin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DNA &amp; TOP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ing if the TOP10 bugs have been contamin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P10 No A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ol for input viability( + contro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C19 We Transform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check pUC19 in the Invitogen kit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ing Invitrogen recommendation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ntration, protoc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BR322 in B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check if plates are ok (+contro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C19 in TOP10/ already transform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check if plates are ok(+ contro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3:04:08Z</dcterms:created>
  <dc:creator>Simon Richardson</dc:creator>
  <dc:description/>
  <dc:language>en-US</dc:language>
  <cp:lastModifiedBy>Simon Richardson</cp:lastModifiedBy>
  <dcterms:modified xsi:type="dcterms:W3CDTF">2011-03-02T15:19:46Z</dcterms:modified>
  <cp:revision>5</cp:revision>
  <dc:subject/>
  <dc:title>Slide 1</dc:title>
</cp:coreProperties>
</file>